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023725" cy="817245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14560" y="0"/>
            <a:ext cx="29192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明朝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19080" y="1233360"/>
            <a:ext cx="48974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73080" rIns="7308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明朝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69360"/>
            <a:ext cx="29210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14560" y="9369360"/>
            <a:ext cx="2919240" cy="496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ＭＳ 明朝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7D7-F19B-47B0-B3B4-374504E67E57}" type="slidenum"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9080" y="1233360"/>
            <a:ext cx="4897440" cy="33307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14920" y="9369360"/>
            <a:ext cx="2919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7F3F-04EF-41A8-A462-A04C0B1ABC99}" type="slidenum">
              <a:rPr b="0" lang="ja-JP" sz="1000" spc="-1" strike="noStrike">
                <a:solidFill>
                  <a:srgbClr val="000000"/>
                </a:solidFill>
                <a:latin typeface="ＭＳ 明朝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1200" y="438768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14592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988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8560" y="191196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120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25988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918560" y="4387680"/>
            <a:ext cx="34840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1200" y="1911960"/>
            <a:ext cx="1082124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1082124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1200" y="325800"/>
            <a:ext cx="1082124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45920" y="438768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1200" y="325800"/>
            <a:ext cx="1082124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120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45920" y="1911960"/>
            <a:ext cx="528048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1200" y="4387680"/>
            <a:ext cx="108212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50920" y="54000"/>
            <a:ext cx="4016160" cy="1084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b050"/>
                </a:solidFill>
                <a:latin typeface="HG丸ｺﾞｼｯｸM-PRO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319640" y="54000"/>
            <a:ext cx="2305080" cy="1087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841640" y="351000"/>
            <a:ext cx="137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令和２年６月２日発行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432040" y="5889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我孫子市立我孫子第一小学校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137200" y="84780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ｺﾞｼｯｸM"/>
              </a:rPr>
              <a:t>６ 月 号</a:t>
            </a:r>
            <a:endParaRPr b="0" lang="en-US" sz="15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769080" y="149400"/>
            <a:ext cx="1719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学級数：通常１８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　　 ことばの教室２　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      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にこにこ教室３　     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児童数：５２８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   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 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男子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270</a:t>
            </a:r>
            <a:r>
              <a:rPr b="0" lang="ja-JP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　女子</a:t>
            </a:r>
            <a:r>
              <a:rPr b="0" lang="en-US" sz="1100" spc="-1" strike="noStrike">
                <a:solidFill>
                  <a:srgbClr val="000000"/>
                </a:solidFill>
                <a:latin typeface="AR丸ゴシック体M"/>
                <a:ea typeface="AR丸ゴシック体M"/>
              </a:rPr>
              <a:t>258)</a:t>
            </a:r>
            <a:endParaRPr b="0" lang="en-US" sz="11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680160" y="39600"/>
            <a:ext cx="1865520" cy="11048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4243320" y="1212840"/>
            <a:ext cx="4316400" cy="68342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2"/>
          <a:stretch/>
        </p:blipFill>
        <p:spPr>
          <a:xfrm>
            <a:off x="4329000" y="74520"/>
            <a:ext cx="2336760" cy="2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07800" y="101520"/>
          <a:ext cx="3937320" cy="1001880"/>
        </p:xfrm>
        <a:graphic>
          <a:graphicData uri="http://schemas.openxmlformats.org/drawingml/2006/table">
            <a:tbl>
              <a:tblPr/>
              <a:tblGrid>
                <a:gridCol w="3937320"/>
              </a:tblGrid>
              <a:tr h="1001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4800" spc="-1" strike="noStrike">
                          <a:solidFill>
                            <a:srgbClr val="2dfd23"/>
                          </a:solidFill>
                          <a:latin typeface="HG創英ﾌﾟﾚｾﾞﾝｽEB"/>
                          <a:ea typeface="HG創英ﾌﾟﾚｾﾞﾝｽEB"/>
                        </a:rPr>
                        <a:t>  </a:t>
                      </a:r>
                      <a:r>
                        <a:rPr b="1" lang="ja-JP" sz="4800" spc="-1" strike="noStrike">
                          <a:solidFill>
                            <a:srgbClr val="2dfd23"/>
                          </a:solidFill>
                          <a:latin typeface="HG創英ﾌﾟﾚｾﾞﾝｽEB"/>
                          <a:ea typeface="HG創英ﾌﾟﾚｾﾞﾝｽEB"/>
                        </a:rPr>
                        <a:t>学校だよ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ＭＳ 明朝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16" descr=""/>
          <p:cNvPicPr/>
          <p:nvPr/>
        </p:nvPicPr>
        <p:blipFill>
          <a:blip r:embed="rId3"/>
          <a:stretch/>
        </p:blipFill>
        <p:spPr>
          <a:xfrm>
            <a:off x="198360" y="22320"/>
            <a:ext cx="900360" cy="957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4" name="タイトル 11"/>
          <p:cNvSpPr/>
          <p:nvPr/>
        </p:nvSpPr>
        <p:spPr>
          <a:xfrm>
            <a:off x="8615520" y="5410080"/>
            <a:ext cx="30146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695920" y="124920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新型コロナ感染症予防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334040" y="1563840"/>
            <a:ext cx="4176720" cy="63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１　今週中にお子様に説明する「保存版」</a:t>
            </a: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学校再開にむ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た我孫子第一小学校　ガイドライン</a:t>
            </a: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に目を通していただ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き、御家庭でも注意することを確認して下さい。裏面に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本校の校内体制を載せてあ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２　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検温を忘れずにお願いします。平熱より高い時や体調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良を感じる日は、休んで様子を見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一人はみんなのために　みんなは一人のために</a:t>
            </a: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で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３　毎日全員が行う消毒は、「登校時・給食前」と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御家庭からミニサイズの消毒ジェルを持参し、休み時間の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終わり等で使用していただいても構いません。（記名して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ください。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４　ガイドラインにも示しましたが、必ずマスクに記名をお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願いします。また、替えのマスクをきれいなビニル袋に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れて持たせ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５　１学期は避難訓練（避難経路の確認と第一次避難）と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審者対応訓練（学級指導）は例年と形を変えて行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６　引き渡し訓練は実施せず、安全主任からの文書配付のみ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とさせていただきます。昨今、地震も多発してお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熟読してください。６月中旬までに配付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７　運動会・修学旅行・林間学校については、市としての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終判断が出ましたら、すぐにお知らせします。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８　熱中症予防のために、学習中も給水をさせます。水筒を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持たせてください。マスクを着用しているので、こまめ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飲ませたいと思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９　水泳学習はありません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部活動は当分の間は中止に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１年生のみ学年便りを発行します。よく読んで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集金事務をなくすため、ＰＴＡ会費が口座引き落とし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なりました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今年度の通知票については、１０月と３月に評価をお届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けします。年２回と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ｺﾞｼｯｸM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HGｺﾞｼｯｸM"/>
              </a:rPr>
              <a:t>　欠席の連絡は「電話」でお願い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☆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学校の再開に伴い、「教室の一部開放による児童の預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り」は原則停止となります。医療に従事している方等は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　ご相談ください。（教頭　森谷あて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7" name="テキスト ボックス 34"/>
          <p:cNvSpPr/>
          <p:nvPr/>
        </p:nvSpPr>
        <p:spPr>
          <a:xfrm>
            <a:off x="149400" y="1217520"/>
            <a:ext cx="404784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明朝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「心・所属感・学習」を大切に！</a:t>
            </a:r>
            <a:endParaRPr b="0" lang="en-US" sz="16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　　　　　　　　　　　　校　長　　山口　祐子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お子様のご入学おめでとうございます。新型コロナ感染症予防のための臨時休校では、たくさんの御協力をいただき、ありがとうございます。在校生は５月４週の分散登校（１日）と課題の進捗状況確認日（１日）の計２日をスタートに６月から学校が再開されました。１年生は今日の入学式から学校での学びが開始され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学校における感染リスクを可能な限り低減しつつ、段階的に実施可能な教育活動を開始し、振り返りをしながら取組を進めてまい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１段階　５／２６・２７・２８・２９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我孫子第一小学校ガイドラインを使いながら、新しい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生活様式を学ぶ。課題の進捗状況の確認を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２段階　６／１～６／５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ＡとＢの分散登校により、学校生活に慣れ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３段階　６／８～６／１９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学校を中心とした生活にもどす。分散登校です。給食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開始となり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第４段階　６／２２～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〇通常登校を目標と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最新の知見や状況等を踏まえ、変更もあります。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学校再開にあたり、教職員は以下のことを心に留め、一小っ子を迎え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ＤＦ特太ゴシック体"/>
                <a:ea typeface="ＤＦ特太ゴシック体"/>
              </a:rPr>
              <a:t>＜かけがえのない　「いのち」を守る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１　新しい生活様式を定着させます。約束　ルー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２　学級のリレーションづくりを工夫し、安心感を抱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せられるようにし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３　学年や学級への所属感をもたせ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４　家庭学習を復習しながら、「丁寧に　工夫して」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１時間１時間の授業を大切に行います。教材研究は学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年主任を中心に学年で行います。教科を横断的に合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しながら進めたり、教えることと考えさせることを明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確にしたりして、学習に臨み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8" name="正方形/長方形 3"/>
          <p:cNvSpPr/>
          <p:nvPr/>
        </p:nvSpPr>
        <p:spPr>
          <a:xfrm>
            <a:off x="198360" y="1217520"/>
            <a:ext cx="3942000" cy="682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609040" y="39600"/>
            <a:ext cx="3213000" cy="80074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0" name="タイトル 11"/>
          <p:cNvSpPr/>
          <p:nvPr/>
        </p:nvSpPr>
        <p:spPr>
          <a:xfrm>
            <a:off x="8697960" y="3862440"/>
            <a:ext cx="2873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1" name="テキスト ボックス 54"/>
          <p:cNvSpPr/>
          <p:nvPr/>
        </p:nvSpPr>
        <p:spPr>
          <a:xfrm>
            <a:off x="7421400" y="6572160"/>
            <a:ext cx="86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2" name="テキスト ボックス 1"/>
          <p:cNvSpPr/>
          <p:nvPr/>
        </p:nvSpPr>
        <p:spPr>
          <a:xfrm>
            <a:off x="8678880" y="7183440"/>
            <a:ext cx="3036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職員作業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令和元年度の学校評価の自由記述であげられていました「校庭のロープ修繕」と「飼育小屋と周りの掃除」は、休校中に整えました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3" name="テキスト ボックス 1"/>
          <p:cNvSpPr/>
          <p:nvPr/>
        </p:nvSpPr>
        <p:spPr>
          <a:xfrm>
            <a:off x="8678880" y="5556240"/>
            <a:ext cx="303696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ホームページ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　 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保護者だけが閲覧できる部屋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「本校の保護者しか閲覧できない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保護者へのお知らせ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</a:rPr>
              <a:t>の部屋を作成しましたログインされるときに、メールで知らせましたログインＩＤとパスワードを入力してください。外国語の動画が入ってい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13520" y="81000"/>
            <a:ext cx="23050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◇ </a:t>
            </a: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６月の予定◇</a:t>
            </a:r>
            <a:endParaRPr b="0" lang="en-US" sz="2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710560" y="444600"/>
            <a:ext cx="30495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２～６年分散登校開始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午前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5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午後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 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3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入学式（２～６年休業日）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全校分散登校開始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 　午前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55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:3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午後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 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35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1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　  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木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登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50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0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B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グループ登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50(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1:00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8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給食あり分散登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　　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4:5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　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6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:2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GｺﾞｼｯｸM"/>
              </a:rPr>
              <a:t>※</a:t>
            </a:r>
            <a:r>
              <a:rPr b="1" lang="ja-JP" sz="1000" spc="-1" strike="noStrike">
                <a:solidFill>
                  <a:srgbClr val="000000"/>
                </a:solidFill>
                <a:latin typeface="HGｺﾞｼｯｸM"/>
              </a:rPr>
              <a:t>下校時の昇降口混雑緩和のため，同じ昇降口を使用する学年の出る時刻を少しずらします。先に出る学年と後に出る学年がありますことをご了承ください。上記の下校時刻は，後に出る時刻です。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校納金引落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今月は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PTA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会費も一緒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県民の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今年は休業日ではありません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2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通常登校開始予定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23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火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ＰＴＡ常任委員会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水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全校朝会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放送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校納金引落日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0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木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給食最終日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31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日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金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) 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終業式　午前日課　１１：３０下校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HGｺﾞｼｯｸM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HGｺﾞｼｯｸM"/>
              </a:rPr>
              <a:t>月の予定についてはまだ未定です。今後分かり次第お伝えしていきます。</a:t>
            </a:r>
            <a:r>
              <a:rPr b="1" lang="ja-JP" sz="1000" spc="-1" strike="noStrike">
                <a:solidFill>
                  <a:srgbClr val="000000"/>
                </a:solidFill>
                <a:latin typeface="HGｺﾞｼｯｸM"/>
              </a:rPr>
              <a:t>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6" name="タイトル 11"/>
          <p:cNvSpPr/>
          <p:nvPr/>
        </p:nvSpPr>
        <p:spPr>
          <a:xfrm>
            <a:off x="8561520" y="3282840"/>
            <a:ext cx="3031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◇</a:t>
            </a:r>
            <a:r>
              <a:rPr b="1" lang="ja-JP" sz="2000" spc="-1" strike="noStrike">
                <a:solidFill>
                  <a:srgbClr val="24fc39"/>
                </a:solidFill>
                <a:latin typeface="ＤＦ特太ゴシック体"/>
                <a:ea typeface="ＤＦ特太ゴシック体"/>
              </a:rPr>
              <a:t>７月のおもな予定◇</a:t>
            </a:r>
            <a:endParaRPr b="0" lang="en-US" sz="20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7" name="テキスト ボックス 1"/>
          <p:cNvSpPr/>
          <p:nvPr/>
        </p:nvSpPr>
        <p:spPr>
          <a:xfrm>
            <a:off x="8678880" y="4668840"/>
            <a:ext cx="3036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＜時間割り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まずは国語・算数を中心に組んでいるため，教科に偏りがあります。今後状況を見て時間割りを見直していきます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正方形/長方形 1"/>
          <p:cNvSpPr/>
          <p:nvPr/>
        </p:nvSpPr>
        <p:spPr>
          <a:xfrm>
            <a:off x="395280" y="125280"/>
            <a:ext cx="11520360" cy="777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69" name="テキスト ボックス 5"/>
          <p:cNvSpPr/>
          <p:nvPr/>
        </p:nvSpPr>
        <p:spPr>
          <a:xfrm>
            <a:off x="395280" y="341280"/>
            <a:ext cx="5688000" cy="78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我孫子第一小学校　校内対策本部</a:t>
            </a: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　　　　　　　　　　　　　　　　　　　　　　　　　　　　　　　　　　　　　令和２年６月１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１　校内体制の整備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対策本部の役割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平時・・感染対策の検討・実施、児童及び教職員の健康状態確認　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感染者発生時・・対応の総括・指示、保健所との連絡、情報発信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構成メンバー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校長　教頭　主幹　教務主任　養護教諭　学年主任　学校事務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栄養士　音楽専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チーム一小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保健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養護教諭と保健主事が中心となり、感染対策の指導・徹底、児童の健康状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 の集約、体調不良時の対応に係る体制整備　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児童支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生徒指導主任　各学年主任　教育相談担当　心の教室相談員が中心となり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検温カードの確認、感染者や濃厚接触者等に対する差別・偏見・いじめの防止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心のケア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主幹　教務主任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教育課程の工夫　　時間割の作成　　授業形態の指導助言　　学習内容の精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選・工夫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２　連絡体制の整備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関係機関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養護教諭は、保健所・教育委員会・学校医等の緊急連絡先一覧を作成し、職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員会議で共有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教職員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緊急時は管理職からメール配信をする。また、部内秘で教職員の連絡網を配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 付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校長は、教職員が感染者となった場合、連絡を入れる家族の連絡先を把握し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ておく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保護者・児童への連絡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スクールメールとホームページを活用し、情報提供を行う。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３　健康観察の徹底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＜家庭における登校前の検温・風邪症状の確認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・児童は、毎朝登校前に、家庭で検温と風邪症状の確認を行い、発熱（平熱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　り高い）や風邪症状がある場合は、自宅で休養することを徹底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☆同居の家族も毎朝検温していただき、体調で変わったことがあれば学校へ伝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えていただく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0" name="正方形/長方形 6"/>
          <p:cNvSpPr/>
          <p:nvPr/>
        </p:nvSpPr>
        <p:spPr>
          <a:xfrm>
            <a:off x="466560" y="270000"/>
            <a:ext cx="5616720" cy="75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1" name="テキスト ボックス 8"/>
          <p:cNvSpPr/>
          <p:nvPr/>
        </p:nvSpPr>
        <p:spPr>
          <a:xfrm>
            <a:off x="6299280" y="341280"/>
            <a:ext cx="554508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・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HGPｺﾞｼｯｸE"/>
              </a:rPr>
              <a:t>相談・受診の目安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・・・いずれかに該当する場合は、すぐに相談してください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息苦しさ（呼吸困難）、強いだるさ（倦怠感）、高熱等の強い症状のいずれ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がある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基礎疾患等があり、発熱や咳などの比較的軽い風邪症状がある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HGPｺﾞｼｯｸE"/>
              </a:rPr>
              <a:t>　　　　◇上記以外で、発熱や咳など、比較的軽い風邪症状が続く場合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◇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上記の症状が４日以上続く場合は、必ず相談。症状には個人差があるた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強い症状と思う場合はすぐに相談。解熱剤を飲み続けなければならない場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合も同様と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帰国者・接触者相談センター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平日　午前９時～午後５時　松戸健康福祉センター（松戸保健所）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　　　　０４７－３６１－２１４０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平日の時間外（午後５時～午前９時）・土曜日・日曜日・祝日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　　　　　電話相談窓口（コールセンター）　０５７０－２００－６１３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＜学校での発熱や風邪症状等を確認した場合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他の人との接触を避け、別室で待機させる。保護者に連絡をして、安全に帰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 宅させ、症状がなくなるまで、自宅で療養させ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相談・受診の目安に当てはまる場合は、帰国者・接触者相談センターやか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りつけの小児医療機関に電話で相談するように保護者に伝え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４　感染者等が発生した場合の対応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＜児童又は教職員の場合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教育委員会は、感染者が発生した場合、原則として、学校全体について、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１４日間を目安に、臨時休業を行う。（学校保健安全法第２０条）ただし、総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合的に考慮し、休業の有無、規模及び期間について、別途判断する場合が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 ある。感染者本人に係る詳細な情報を収集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感染拡大防止の必要上、当該児童が明らかになることもあるが、差別・偏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　見・いじめなどの対象にならないように十分な配慮や注意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保健所から濃厚接触者とされた者は自宅待機を行い、保健所の指導に従う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・校内の消毒を行う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＜濃厚接触者が発生した場合の対応＞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教育委員会は、濃厚接触者が発生した場合、原則として、臨時休業は実施し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 　　ない。ただし、県又は市の衛生主管部局や保健所の助言等を参考に、実施を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 検討する場合があ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当該児童又は教職員は、保健所の定めた期間、自宅待機を行い、保健所の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     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指導に従う。保健所との窓口は教頭とする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必要に応じて、プライバシーに配慮し、保護者に対して説明文書を配付する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・濃厚接触者の家族の出勤や登校については、保健所の指導を教育委員会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　　に報告し、指導を仰ぐ。</a:t>
            </a:r>
            <a:endParaRPr b="0" lang="en-US" sz="12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2" name="正方形/長方形 9"/>
          <p:cNvSpPr/>
          <p:nvPr/>
        </p:nvSpPr>
        <p:spPr>
          <a:xfrm>
            <a:off x="6156360" y="270000"/>
            <a:ext cx="5688000" cy="75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  <p:sp>
        <p:nvSpPr>
          <p:cNvPr id="73" name="正方形/長方形 2"/>
          <p:cNvSpPr/>
          <p:nvPr/>
        </p:nvSpPr>
        <p:spPr>
          <a:xfrm>
            <a:off x="6299280" y="1925640"/>
            <a:ext cx="5400720" cy="115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05:24:18Z</dcterms:created>
  <dc:creator>我孫子市教育委員会</dc:creator>
  <dc:description/>
  <cp:keywords/>
  <dc:language>en-US</dc:language>
  <cp:lastModifiedBy>我孫子市教育委員会</cp:lastModifiedBy>
  <cp:lastPrinted>2020-05-25T08:57:00Z</cp:lastPrinted>
  <dcterms:modified xsi:type="dcterms:W3CDTF">2020-05-26T01:06:22Z</dcterms:modified>
  <cp:revision>853</cp:revision>
  <dc:subject/>
  <dc:title>スライド 1</dc:title>
</cp:coreProperties>
</file>